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CF4-9C9D-4938-9B37-E04EA78D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827-6115-4B28-8655-0C492934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043-926E-415A-A301-4A8FC082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998-B513-46DA-B49F-5C1E0E7C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681-431A-47FE-92B0-1FC8664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56E-A6B9-4717-B0A9-96B8D7B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03E-BB61-4084-BA00-9270394B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98E-45BA-4E20-A47C-2A878456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B3E-62CE-4A00-9FAF-A95A2F3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B20-58AE-46DA-B8D6-F062550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14C-77A5-47D7-833A-6546283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7EE-A071-4BAB-9E58-AA318A9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2B1-6735-491B-944E-887806817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20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689616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817668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22400" y="160200"/>
            <a:ext cx="7099200" cy="6537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803232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256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1547640" y="1773360"/>
                <a:ext cx="622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Объект 6"/>
          <p:cNvGraphicFramePr/>
          <p:nvPr/>
        </p:nvGraphicFramePr>
        <p:xfrm>
          <a:off x="5148360" y="3068640"/>
          <a:ext cx="21319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068640"/>
                    <a:ext cx="21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606924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Овал 1"/>
          <p:cNvSpPr/>
          <p:nvPr/>
        </p:nvSpPr>
        <p:spPr>
          <a:xfrm>
            <a:off x="3276720" y="1341360"/>
            <a:ext cx="7905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35940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Овал 1"/>
          <p:cNvSpPr/>
          <p:nvPr/>
        </p:nvSpPr>
        <p:spPr>
          <a:xfrm>
            <a:off x="4284720" y="1125360"/>
            <a:ext cx="1150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96212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404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"/>
          <p:cNvSpPr/>
          <p:nvPr/>
        </p:nvSpPr>
        <p:spPr>
          <a:xfrm>
            <a:off x="250920" y="3357720"/>
            <a:ext cx="324144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8897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2772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96212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5"/>
          <p:cNvSpPr/>
          <p:nvPr/>
        </p:nvSpPr>
        <p:spPr>
          <a:xfrm>
            <a:off x="1332000" y="450864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518240" cy="607716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250920" y="3068640"/>
            <a:ext cx="273672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648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121440" cy="544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3887640" cy="115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745596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6:11:35Z</dcterms:created>
  <dc:creator>User</dc:creator>
  <dc:description/>
  <dc:language>en-US</dc:language>
  <cp:lastModifiedBy>User</cp:lastModifiedBy>
  <dcterms:modified xsi:type="dcterms:W3CDTF">2021-04-25T11:40:59Z</dcterms:modified>
  <cp:revision>7</cp:revision>
  <dc:subject/>
  <dc:title>Презентация PowerPoint</dc:title>
</cp:coreProperties>
</file>